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6A8-A292-47EB-A3BE-2C997B5D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041-7324-48C0-9281-0004B0E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6FE04-D53C-4E3F-8F1F-0BE51D4A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09F26-F6C1-4B0A-A719-7426762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D0F1-9B13-45CA-8E67-8E2A008F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E9BAE-623D-4989-B9A7-31AE2F6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EFC33-3CF7-4B31-BC6F-0C2FCC2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19B78-B239-4C3D-A8DB-3A4BF65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D1351-EAB3-4B94-863B-D7C10877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7AFEA-4C60-4C77-9E25-2B357020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CDA9F-611F-457B-8E8E-07BA6D88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BD264-0E92-4755-AFC9-8AB3730D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B07-6549-46E5-BAC8-6BB35E4E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CC249-EDDC-4A48-8337-F1EB516A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ABC61-1AEE-47D8-9017-E8C3885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3A52C-3B19-414E-8716-0ED07B9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E53F3-546D-4A99-BFDA-8D496C61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D0E75-B5F2-431F-84BB-F77EA9E0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E0F8-A93C-4D78-B16F-8CBC42E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8A6E2-4294-41D0-8BDA-04B6CDE5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F82B9-26CA-4A2F-B802-AFF66F2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8E1D4-7D65-4D75-B99B-BF3C9BD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D8BA0-FA63-4786-B33A-4C3A30FE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CD7-1EFB-492C-B459-D6731B6F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95544-B219-49FB-9ECD-96B94076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FA01F-3AC6-446B-BD8D-0D25D0FC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E1CE8-0EC7-40F7-BDC9-7855245A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7CBC9-1FEB-4B39-A3EA-777701C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8E15-87F5-409E-B039-0BB6AF0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0D100-E2DD-45CC-AA86-416C0317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5D931-57EA-4421-96F7-562B9B2B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71F0-4958-4F43-B8FE-E647DCE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D85BD-52B2-46F2-A63D-D808DE65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AF399-4481-4161-A68B-2BDD711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3D48-9900-4303-9B24-342D8D24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DF412-6044-41E9-A649-BC11ACF8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29ABF-0191-4F39-A25C-E0FA19B4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E72A1-68B2-4BF8-BFAD-E843C187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D848A-683B-41ED-B895-2C96F07D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9255C-B210-46DB-9F45-D255FCB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E7614-A4DC-4801-9F16-290405B3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693F3-6ECA-4A0F-875E-C02AFB8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48430-0EAB-49E4-B98A-16A3F761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83ED7-AF96-429C-AB3E-C8D12D8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B6F3F-C58C-4759-9FF1-88678B9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2D18-D140-404D-80AC-59591C3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1E685-C29E-4B4A-82EB-316C802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72050-3521-4CA3-B9E2-C5E64A5A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0C770-515E-4F8B-83D6-DADB2BB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EBF5A-C07F-4E06-B239-CEB1DD63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73B12-6F07-4CA1-9CC0-D2012E8B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673C7-1DEB-4BF2-BC83-8DAE683D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DD79A-8BE3-4EFE-8EF7-19EA4C9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DB406-CD71-4FBA-B7AB-2F015A7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0870F-3E56-4600-90B0-BD4EF71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3F6D3-8A61-4F3A-8F41-44D9D5B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E7E7-BF3F-498C-8991-B6C1F3C5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10702-CC8F-4C28-B565-000A1FEB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654DB-0CAC-47BF-8FDB-BEDA609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81B76-8F19-4615-B32E-02DDEC0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26E8D-EC67-42B1-84E9-9566E4E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4F6C5-AEDE-4DA2-A571-22AAFBF1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4A5BC-C42D-49E2-A281-602BFC9B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25525-1AB1-44ED-B497-A228F845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E03B7-EC31-4963-8AC5-B324DAA7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0891E-1FB4-4C67-A758-667BD0D8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22B12-8ED1-4658-AC2D-82F7BE11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8B57-64AF-458F-AE6B-379B1AE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B7C41-2E88-4C5F-993E-A963E8F6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ED29B-1AB6-4EE6-B1DB-D203B07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E1940-19F2-4BF7-B265-4F14EF3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9FB18-2058-471A-A745-0AC7F4CB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EDB3C-2E01-4CD2-8D84-5745183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8FD9A-3ED9-4197-852F-2F414E3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108DE-6B97-4033-BCB6-2739231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ADE56-A7E0-43C2-A03C-22E7D95B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26390-A618-4596-8196-E9B5B27B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4B8B0-2785-49DF-8808-D215D134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2F46-6B2A-45ED-B837-197C961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EEFBD-0C63-48FB-9AD1-2271F0A6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0607B-0C24-4309-834A-7B06B8E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AA0A5-9BBB-46EA-B016-BF9FAA0A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6D3E0-09AA-4474-99FC-49F41071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F0193-6F64-448F-8FD9-E1A1BB9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51AAC-665D-4B72-93C9-75CA0FD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E4546-87D1-4BDA-8236-ED2BFE4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6588E-8FFC-425A-BF52-7F9123A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50EE1-3243-4196-9C51-E3FFE19E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A2A96-FD44-4BAE-8443-539DB21D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CF01-4EDC-4B46-85F3-411D8B89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AF590-7173-45AD-A775-961358F0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0CEBB-7ADA-429C-9C9D-803EEAC9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31C6A-3888-456F-A0F6-1B2105C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4412A-A3DC-447A-8204-BB603073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C24C9-2CFD-40CC-BAD8-B15B5F49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2A168-7A63-497D-ADA7-178A73E3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2E0E6-0E1B-4973-BD88-996BD11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6FC60-1F0B-48AC-A841-10B3604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54038-4367-4802-9E09-CE60282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9FE8E-BB13-4F93-882D-9433185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7BCD-D7F6-47D8-9347-6D0FAF7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E87B3-8093-49B8-A60F-78B04F11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A852A-2CFA-4A0C-9125-CA339DA4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949C2-7002-4CA7-895A-4AAF8625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69FCA-1B71-4F2C-82E0-B78983CE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346AD-3A50-4B4C-94C6-DC58C809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9733CD-41A0-4044-8537-5BAB739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BDC36-5B21-44C7-B509-3A23DC5A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E6678-05AE-4667-B1AA-D952F7CC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6B080-343C-4C30-B226-3F25C902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5365A-EDEA-418F-8367-2F10669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740-AB79-43A2-8C69-52EAA44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E705-A018-4837-B9DD-13AE784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7F231-7535-40C0-98E0-57C63F23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F8D88-4EBC-4065-9C17-7425FC3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0DCFB2-C743-4EE0-8352-B20C5335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0F3C9-9B22-4A1E-8BD5-89665B27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762B0-18CB-440C-B227-C76414C0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C1681-4077-43D5-A6A2-FE6C1721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048E3-0344-478E-A7F8-1E3838C6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0DCEA-A4D8-49A9-9204-A642DF1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40437-9CCB-41F1-A80F-FF2C2D1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C6076-053A-4CB7-A0CA-0B8EC975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1156-5F09-44B2-A32E-1AD513C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C17FB-53DC-4724-B4D6-9DC02270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D19CF-2E50-4094-988C-94D3B26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E3DEF-5468-44C3-BFF6-FABB167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EC3C6-3666-466E-A3C6-147BBDA9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72318-DDA2-4839-B03E-16270ABB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2E2F0-878D-47AC-ABCC-1C718E12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380DC-99BA-42F8-8DEF-A5270ECF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A723A-0244-461A-9938-74C489DE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A3F79-5516-4699-8884-F4A8FAD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06F65-5EAA-46B7-8A94-AC2DA2AE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BD27-DED0-495F-9DEA-80BCA166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5A397-5F23-47BF-A4D4-B9A00450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30E33-2B8B-4387-AC4D-196C6D3B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0F5C0-4AAF-4E08-B3B8-0E8214E1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75A82-84B0-43D0-BC8D-FCD0E53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60B3C-13EE-4B9D-90C7-35C58B16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9889A-B7A0-4E77-A016-2B4828C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F9DF8-86D9-4FDA-A289-33E5CE5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29C0A-C735-438D-ACBD-10F5D364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744BD-428B-4BB0-B2DB-B7A888B2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6DCA3-2879-4AE6-82F8-BE8B79B7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988-0A76-481C-B30B-B7E9526C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02C92-FE6C-46C9-B858-BDF0C55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5FAF9-0441-47A4-A610-753B77E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A2B77-A34E-450B-A6F0-D9F74D0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88BAD-FEC8-49AB-AF6D-5CEC5E3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110BD-2E69-4387-8F0E-6F8D963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B8144D-EBC7-45F9-AF3E-B8D86CC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141C5-AB78-43E7-A29B-DDF2D4E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8F494-2207-41E3-BF59-2A42D96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3FDD5-4421-4991-8F35-8ED2DE6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D5F0D-802E-454C-B2F3-4A81CC61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E11F-0E87-4991-91C1-2ABF222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7FAB5-AC4F-4C92-9EA9-0E986BB2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DC792-6522-4399-8088-FE20B128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6E70E-0646-4189-BDBE-C7E7C1A2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24342-070A-4AA7-B31A-D6E5120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4042EC-16B9-4E07-834F-6F671C5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F0820-98E4-4383-BDCB-A696DF15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9D481-8935-4966-B049-F6AAD3C2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88503-7FE4-45E6-92A8-4D5C274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C2EA4-198D-4E18-8CCF-A7AA145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FB56F-ABDA-40C5-BC98-6E62C2C8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833E-B401-4617-8C4F-3675EAB0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CEB75E-07C5-4FF9-90A8-2614EE03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9833E-178A-4996-B9C0-9C86A2CB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02D56E-1A07-4E1C-ABFA-584FF008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46599D-9E8E-4323-93CD-B74629A8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90F333-D5AA-457E-86BC-5B21A32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FB2D8-B3A0-4695-BE12-76AB27C9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3B7FCA-052B-4E54-86BA-94153DA0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C57E3-0B9E-4861-BCCA-27653FE4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53F98-6C00-4477-9137-42D9C5E3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FF6AF-95BF-496F-A22F-0E937E07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22A5-711C-4177-9E80-16BB17E2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AC91A9-B407-45EF-8E75-3346AB9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E25189-CFE2-4977-B262-EFA7EB1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82CB3C-BB3B-40A9-8F38-018C925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C6752-FB96-4224-B68A-F1E25407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22234F-7282-43F5-9633-1117B60B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D07A-A480-499E-A5E0-69E398DD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27B1-CF20-4F18-9945-7C1F5117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8AE4-8285-4468-9110-1802E75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CA1-8748-4B8A-82EA-A96F035A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0A75-EF5B-40C1-AA7A-416E56A8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8FF4-B96A-48DB-A3A3-4518AE8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BEEF-2423-43C0-829D-AF2D679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88AD-3F5F-46AA-ACB7-B44A2EA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C323-5E5F-40EC-90AF-8CF3D77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DD72-F693-4019-A9E3-9A1BFA5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46F0-D66D-4BF4-A4A0-E6B09F5A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36050-4001-4311-A8C1-D201D1CE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0900-214C-4C34-BFA4-0A35B3CF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2F27-8162-4511-814D-9DF0F95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08E-B78F-4544-B737-03C3440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5534-BED4-41B1-B925-F6355623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6C3FB-4E65-4A29-9C4C-A5B043BF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7EE9-CFA7-44E2-9742-AB1CDC6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873A-800A-448C-89A8-B79F6A0D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A4C2-F8EE-495D-B8C3-4404107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58C8-CE46-4905-83A4-70B454C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146A-F42C-4D3D-8D40-AEDE638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0936-07DD-4D78-8573-88358B84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A319-6E37-45EE-B1F6-3258E85C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D9E7-ED05-4865-BF65-63B40E2B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063-7E4D-4D62-9010-B65A1B9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B4BA-9D8F-4EBC-975D-E3E6359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D14F-44CC-44A7-B0CA-790EA96B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51E1-59AD-4C40-9435-D336658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56D9-09EB-4D10-A09A-B647FC2D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775D-FB76-461D-AC45-E639E64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4413-E401-41CB-9C33-FED642F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C2093-3AAD-4928-88C7-8146090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8008-E982-44FB-B0D2-913018B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2B6B-C10B-4EE1-97D4-B3DCDD1E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253D-D3D8-48FC-A9F7-C56CFA16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346-4BA7-4409-B7F4-7B51ED66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86A44-FB93-4AC2-AC11-C1E85B96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4789-6EA1-4397-81E7-D7B41FC1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ECE4F-A717-4908-BA52-D04C11FB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AA80-41C1-48D1-B9A1-FC22068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6357-280D-48EC-A43B-17B98E65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7FFD-4784-4BBE-86EC-55786140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9178-5D3B-4EFE-AD01-69492E0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16D1C-D8B3-4B22-BF92-333A31F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9EAD2-934F-4AFD-8F33-E93E50A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67929-DC77-452D-A31A-01996C1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B4C-5BF4-4550-87C1-D531CBE0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BB361-69E1-4963-A67B-CF7B5C7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A7F4-6BC5-4600-93AC-3EC40105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82E4-3492-4BF8-A3A7-91F29F42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00571-0D68-4378-AB6A-A9E31C2B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26795-5CFD-4884-98F7-7C6A9A4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C3938-8A6E-4463-9E34-52E1C0E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F5DA-9A36-4D3F-91F5-898F6C6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BD8F-E166-4C83-AF03-26F0502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6CBF-C1CA-4191-B39C-915CA626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232C1-7D19-43A5-8274-1D8B369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3A8-399D-4A1B-9802-46664499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C3ED-AD87-41A4-B86F-B607F5CF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4E17-4755-43E7-BB80-3F6DDF6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521D-6F6E-4C9B-B49D-0D792ADE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7188-83D0-46D4-8610-3C1BA52A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B290-7DBB-425E-9417-D57A86C2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9131A-7F32-4C9F-8B7E-03648CA9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E75A4-E316-4061-A48B-BA8128C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1880-A657-4DFE-83C3-FE05EF3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58A7D-E2CF-4468-8421-90926B44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78F05-05D2-43FC-83C8-24B6E75D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68B-32E4-4352-B428-40BC173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C69D3-D40E-41E8-BD0D-F48705F9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887F-C035-4E7A-9CB5-86CEE80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129E-CD6C-40E6-9FC5-A7CAF4E0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BE22E-7905-4410-A4FE-C5562FF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93917-3C6A-439D-B4E6-72CB116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BDE82-3BF3-4C12-9C6B-AA390DE5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8A52D-E424-47EC-B41E-89B9A0A2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BB200-D864-4170-A5FE-095836A5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FD306-C184-4778-978F-0472A34B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61C70-54C7-42D1-93AE-3B7D91F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7649-EC04-43F0-89E2-D76FDBFD46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293-6FAE-4D9D-88D0-2C0F59A746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5B9-C5D6-4CFB-9A20-690A81EE8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767-F5B7-47EE-B6CB-F01B15185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C1D-0513-42D1-AD44-16D81AC31B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CC59-E264-4451-A5DB-3E70C5CC7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741-0863-411F-89FA-EBA2277CFA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8608-E99B-4449-882D-C27F8EEF9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9B8-72DE-43A8-AFA5-EE3B28B38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9AA-0566-4A2B-91D2-820C3178C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983-3126-4F1B-9283-607583703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7829-6AE8-4AF0-8950-E2E87870A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64A7-468A-4FAC-A943-0EA90286B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88A-8FD4-4B8E-9EA9-FFCA8B6A3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4655-7575-402C-AD53-AED4E55F0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BCFA-F0B3-411B-97EC-D1D643B74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FE7-94F9-4D1E-BB42-B673398F6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0AC8-FC94-469B-83CF-1F608F6BB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768-FA1F-457A-9482-004F5D068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B8D-312C-4D07-BA69-209DD7CE9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BDAD-376E-43FC-8DA5-3EA01172F6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F7F-B00D-4804-A43E-4000882E72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2D16-0523-490E-8DB9-DD8548A50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5F7-4B63-41E4-8859-B26A8F252C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57FF-FCC8-4F21-BC11-9F0C7C4CB8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248-BE87-4951-A6C7-520FC0516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897-4A53-40FF-B2E6-EFD72640A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10B-0391-4C54-B481-1D81FEFDC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74F-A59F-45F6-9E00-DDC1AF40F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C1F-313D-4B19-9BC5-AFACD10E0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7E0-53C2-468D-B703-CBFDA7D6A7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61C2-378B-4AE0-BF0C-03096CBD1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4964-6E1C-43DA-8CBF-3251A8D2BD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168E-ED91-4142-86A0-AA8184729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06FA-1909-49F2-9FDD-DE26C56E4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0CE8-563B-4C2C-833A-A0B453BB4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D60-6EF4-4CD8-8099-3E60F1657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EE1F-8862-465B-830D-2C54544FA9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3627-EE41-4B8B-8CB1-E0AC44331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327A-EF59-49FD-A456-73D4E280A0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D72-6145-4100-8A5D-8C18E1DCE3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409840" y="3152880"/>
            <a:ext cx="43243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组合 6147"/>
          <p:cNvGrpSpPr/>
          <p:nvPr/>
        </p:nvGrpSpPr>
        <p:grpSpPr>
          <a:xfrm>
            <a:off x="85680" y="1362240"/>
            <a:ext cx="8982000" cy="4133520"/>
            <a:chOff x="85680" y="1362240"/>
            <a:chExt cx="8982000" cy="4133520"/>
          </a:xfrm>
        </p:grpSpPr>
        <p:pic>
          <p:nvPicPr>
            <p:cNvPr id="964" name="图片 6145" descr=""/>
            <p:cNvPicPr/>
            <p:nvPr/>
          </p:nvPicPr>
          <p:blipFill>
            <a:blip r:embed="rId1"/>
            <a:stretch/>
          </p:blipFill>
          <p:spPr>
            <a:xfrm>
              <a:off x="85680" y="1362240"/>
              <a:ext cx="8972640" cy="41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图片 6146" descr=""/>
            <p:cNvPicPr/>
            <p:nvPr/>
          </p:nvPicPr>
          <p:blipFill>
            <a:blip r:embed="rId2"/>
            <a:stretch/>
          </p:blipFill>
          <p:spPr>
            <a:xfrm>
              <a:off x="390600" y="2862360"/>
              <a:ext cx="8677080" cy="25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6" name="直接连接符 6148"/>
          <p:cNvSpPr/>
          <p:nvPr/>
        </p:nvSpPr>
        <p:spPr>
          <a:xfrm flipV="1">
            <a:off x="1187280" y="3789360"/>
            <a:ext cx="172908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6149"/>
          <p:cNvSpPr/>
          <p:nvPr/>
        </p:nvSpPr>
        <p:spPr>
          <a:xfrm flipH="1" flipV="1">
            <a:off x="4701960" y="3803760"/>
            <a:ext cx="3398760" cy="7776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6150"/>
          <p:cNvSpPr/>
          <p:nvPr/>
        </p:nvSpPr>
        <p:spPr>
          <a:xfrm flipV="1">
            <a:off x="4716360" y="3789360"/>
            <a:ext cx="172872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6151"/>
          <p:cNvSpPr/>
          <p:nvPr/>
        </p:nvSpPr>
        <p:spPr>
          <a:xfrm flipV="1">
            <a:off x="6645240" y="3803760"/>
            <a:ext cx="172872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7169" descr=""/>
          <p:cNvPicPr/>
          <p:nvPr/>
        </p:nvPicPr>
        <p:blipFill>
          <a:blip r:embed="rId1"/>
          <a:stretch/>
        </p:blipFill>
        <p:spPr>
          <a:xfrm>
            <a:off x="123840" y="1081080"/>
            <a:ext cx="8896320" cy="4695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3693960" y="18651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8028000" y="2795760"/>
            <a:ext cx="287280" cy="2552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3938760" y="4292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6257880" y="486900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8193" descr=""/>
          <p:cNvPicPr/>
          <p:nvPr/>
        </p:nvPicPr>
        <p:blipFill>
          <a:blip r:embed="rId1"/>
          <a:stretch/>
        </p:blipFill>
        <p:spPr>
          <a:xfrm>
            <a:off x="228600" y="1890720"/>
            <a:ext cx="8686800" cy="3076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223380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22338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2:48:2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